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F45-6962-4973-98C9-B3FC9198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3E4-0630-42F3-BED6-0D84060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F7B-C341-4DD5-AE0B-FACF26AD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839-66C1-490F-A2CF-B7DE09BE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515-4928-41E6-9CA8-8DB30C6A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970-46A8-4623-AF4F-32FEDFB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681-DA4D-4A00-8E0D-FA04CDF2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692-9701-462F-A6F5-D033DEF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1B5-51CA-45AC-9737-2D05486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047-0C3D-40EE-9370-6D7CE86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470-DF3F-431C-A81A-1D8DDBF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98A-0288-4157-AD9A-755D57A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E47C-E27B-47C1-97AF-DA45B996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scoala186ev@yahoo.com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Magnolia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- observa</a:t>
            </a:r>
            <a:r>
              <a:rPr b="0" lang="ro-RO" sz="4400" spc="-1" strike="noStrike">
                <a:solidFill>
                  <a:srgbClr val="ff00ff"/>
                </a:solidFill>
                <a:latin typeface="Arial"/>
              </a:rPr>
              <a:t>ție fenologică 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609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66ffff"/>
                </a:solidFill>
                <a:latin typeface="Arial"/>
              </a:rPr>
              <a:t>Septembri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371600"/>
            <a:ext cx="72388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Proiect Comenius Virtual 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4040"/>
            <a:ext cx="8458200" cy="915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ŞCOALA CU CLS. I-VIII NR. 186 “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NA VĂCĂRESC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 BUCUREŞ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. Stanislas Cihoschi, nr. 15, secto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n/fax: 021-3163630, e-mail: </a:t>
            </a:r>
            <a:r>
              <a:rPr b="0" lang="it-IT" sz="11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scoala186ev@yahoo.com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ro-R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ite : www.scoala186.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90720" y="228600"/>
            <a:ext cx="799920" cy="1028880"/>
            <a:chOff x="990720" y="228600"/>
            <a:chExt cx="799920" cy="1028880"/>
          </a:xfrm>
        </p:grpSpPr>
        <p:graphicFrame>
          <p:nvGraphicFramePr>
            <p:cNvPr id="47" name=""/>
            <p:cNvGraphicFramePr/>
            <p:nvPr/>
          </p:nvGraphicFramePr>
          <p:xfrm>
            <a:off x="1057320" y="297720"/>
            <a:ext cx="663480" cy="896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57320" y="297720"/>
                      <a:ext cx="663480" cy="8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1062360" y="307080"/>
              <a:ext cx="644400" cy="887400"/>
            </a:xfrm>
            <a:prstGeom prst="ellipse">
              <a:avLst/>
            </a:prstGeom>
            <a:noFill/>
            <a:ln w="76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990720" y="228600"/>
              <a:ext cx="799920" cy="1028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55673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Elena Văcărescu-poetă română de limbă franceză; "Ambasadoarea sufletului românesc în Franţa"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1951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Încadrare sistematic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Încrengătura Magnoliophy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Clasa Magnoliop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Subclasa Magnoliid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Ordinul Magno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Familia Magnoliace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Magnolia s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prind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rbori şi arbuşti răspândiţ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i ales în regiunile tropicale ş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ubtropicale, frecvent cultivaţi î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giunile temperat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9621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Observație: luna septembrie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Stabilirea încadrării în stadiul de floare / fr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Observații asupra frunze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Stabilirea rolului frunz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Stabilirea persistenței / perenității frunzelor în cazul acestui tip de arb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Observații asupra scoarț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Observații asupra fructulu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1. Stabilirea stadiului de fruct sau de floare pe baza observației directe a copac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32097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00"/>
                </a:solidFill>
                <a:latin typeface="Arial"/>
              </a:rPr>
              <a:t>2. Observații asupra frunzelor: forma limbului, tipul de nervură, mar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00"/>
                </a:solidFill>
                <a:latin typeface="Arial"/>
              </a:rPr>
              <a:t>3. Stabilirea rolului frunzelor pe baza prezenței clorofilei, ce conferă culoarea verde plan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26002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Încadrarea magnoliei în categoria copacilor cu frunze căzătoare sau persistente iarna pe baza caracteristicilor frunz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2600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5. Observarea scoarței copacului: culoare, prezența șanțurilor, adâncimea lor, grosimea scoarței, exfol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1950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. Observarea fructului magnoliei: culoarea, suprafața, numărul și modul de dispu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. Observarea mirosului specific fructului desfă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. Încadrarea fructelor de magnolie la categoria celor necomestibile sau comest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24861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4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28:04Z</dcterms:created>
  <dc:creator>Felix</dc:creator>
  <dc:description/>
  <dc:language>en-US</dc:language>
  <cp:lastModifiedBy>Computer 5</cp:lastModifiedBy>
  <dcterms:modified xsi:type="dcterms:W3CDTF">2010-12-07T18:28:23Z</dcterms:modified>
  <cp:revision>6</cp:revision>
  <dc:subject/>
  <dc:title>Slide 1</dc:title>
</cp:coreProperties>
</file>